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69B-A7C8-4A20-B338-1F24259F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C13-D907-41FF-A5AE-ABB7A2E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DD3-DB54-4EC2-A78F-6978BA59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FD45-37DE-42C9-AB7B-3D7C6024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204-564A-44EF-BC22-EBD8222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C17-3D30-46C8-92F6-8CCF8A14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988-9731-4C56-B271-17F7BFE3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953-9E70-45A1-ABF6-CB9E5667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B84-6612-4012-BA41-BAC850EF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C55-EE23-47BB-BF94-A84C4988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7D8-8103-4058-83F5-F5F79FD3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711-420F-4738-A8F9-2CBC705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BB59-042F-41DA-89DB-1B9F1D4F06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Как Иван царевич, ключ к знаниям земли искал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maxresdefault"/>
          <p:cNvPicPr/>
          <p:nvPr/>
        </p:nvPicPr>
        <p:blipFill>
          <a:blip r:embed="rId1"/>
          <a:stretch/>
        </p:blipFill>
        <p:spPr>
          <a:xfrm>
            <a:off x="1547640" y="2637000"/>
            <a:ext cx="61930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Изобаты, шкала глубин и  высот, горы, равнины, карты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" descr="kalendari-risovannye--vektornaya-grafika-1301932"/>
          <p:cNvPicPr/>
          <p:nvPr/>
        </p:nvPicPr>
        <p:blipFill>
          <a:blip r:embed="rId1"/>
          <a:stretch/>
        </p:blipFill>
        <p:spPr>
          <a:xfrm>
            <a:off x="1476360" y="2268360"/>
            <a:ext cx="61200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Изображение на физических картах высот и глубин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слойная окра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slide-15"/>
          <p:cNvPicPr/>
          <p:nvPr/>
        </p:nvPicPr>
        <p:blipFill>
          <a:blip r:embed="rId1"/>
          <a:srcRect l="20340" t="28665" r="20727" b="12096"/>
          <a:stretch/>
        </p:blipFill>
        <p:spPr>
          <a:xfrm>
            <a:off x="1824120" y="1981080"/>
            <a:ext cx="549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102"/>
          <p:cNvPicPr/>
          <p:nvPr/>
        </p:nvPicPr>
        <p:blipFill>
          <a:blip r:embed="rId1"/>
          <a:stretch/>
        </p:blipFill>
        <p:spPr>
          <a:xfrm>
            <a:off x="468360" y="2852640"/>
            <a:ext cx="8353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image?id=954386684655&amp;t=3&amp;plc=API&amp;viewToken=7k9zRpYIk3ZVXvhQyDQgRQ&amp;tkn=*cJjxlTI6dEsAu_8A5NhfZL_XAfw"/>
          <p:cNvPicPr/>
          <p:nvPr/>
        </p:nvPicPr>
        <p:blipFill>
          <a:blip r:embed="rId1"/>
          <a:stretch/>
        </p:blipFill>
        <p:spPr>
          <a:xfrm>
            <a:off x="1116000" y="981000"/>
            <a:ext cx="676908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 КАР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обаты – это линии соединяющие  точки с одинаковой глубин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niestandartnyie-uroki-v-1-klassie_2"/>
          <p:cNvPicPr/>
          <p:nvPr/>
        </p:nvPicPr>
        <p:blipFill>
          <a:blip r:embed="rId1"/>
          <a:stretch/>
        </p:blipFill>
        <p:spPr>
          <a:xfrm>
            <a:off x="324000" y="2565360"/>
            <a:ext cx="256212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1ff6bb-aa29-5f19-9121-02ed6aa454b9"/>
          <p:cNvPicPr/>
          <p:nvPr/>
        </p:nvPicPr>
        <p:blipFill>
          <a:blip r:embed="rId2"/>
          <a:stretch/>
        </p:blipFill>
        <p:spPr>
          <a:xfrm>
            <a:off x="2556000" y="404640"/>
            <a:ext cx="6337080" cy="36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s://media.istockphoto.com/vectors/locksmith-key-vector-id451575115?k=20&amp;m=451575115&amp;s=612x612&amp;w=0&amp;h=E148CSj7JqQUge_FswrIDYfIlWPJNJ5A_IPfXN1twNA="/>
          <p:cNvPicPr/>
          <p:nvPr/>
        </p:nvPicPr>
        <p:blipFill>
          <a:blip r:embed="rId3"/>
          <a:stretch/>
        </p:blipFill>
        <p:spPr>
          <a:xfrm>
            <a:off x="5072040" y="4643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5T06:27:35Z</dcterms:created>
  <dc:creator>Таня</dc:creator>
  <dc:description/>
  <dc:language>en-US</dc:language>
  <cp:lastModifiedBy>User</cp:lastModifiedBy>
  <dcterms:modified xsi:type="dcterms:W3CDTF">2023-03-06T12:25:08Z</dcterms:modified>
  <cp:revision>2</cp:revision>
  <dc:subject/>
  <dc:title>PowerPoint Presentation</dc:title>
</cp:coreProperties>
</file>